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7189788" cy="9501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0"/>
            <a:ext cx="7189200" cy="950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hdr"/>
          </p:nvPr>
        </p:nvSpPr>
        <p:spPr>
          <a:xfrm>
            <a:off x="0" y="-1800"/>
            <a:ext cx="3114720" cy="4762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dt" idx="1"/>
          </p:nvPr>
        </p:nvSpPr>
        <p:spPr>
          <a:xfrm>
            <a:off x="4073400" y="-1800"/>
            <a:ext cx="3114720" cy="4762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ftr" idx="2"/>
          </p:nvPr>
        </p:nvSpPr>
        <p:spPr>
          <a:xfrm>
            <a:off x="0" y="9023040"/>
            <a:ext cx="3114720" cy="4762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sldNum" idx="3"/>
          </p:nvPr>
        </p:nvSpPr>
        <p:spPr>
          <a:xfrm>
            <a:off x="4073400" y="9023040"/>
            <a:ext cx="3114720" cy="4762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A605034F-2F7F-4562-88FC-B4665C48CEFA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2954880" y="9045720"/>
            <a:ext cx="127836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7160" bIns="471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1DD6E491-5F6B-4B42-ACBA-C4764960004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Img"/>
          </p:nvPr>
        </p:nvSpPr>
        <p:spPr>
          <a:xfrm>
            <a:off x="1227240" y="717120"/>
            <a:ext cx="4735440" cy="3551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 type="body"/>
          </p:nvPr>
        </p:nvSpPr>
        <p:spPr>
          <a:xfrm>
            <a:off x="958320" y="4510080"/>
            <a:ext cx="5270760" cy="427680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960" bIns="4896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6EDE9D59-44E5-4B54-8618-AACF95C33066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227240" y="717480"/>
            <a:ext cx="4735440" cy="35514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58320" y="4510080"/>
            <a:ext cx="527076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D69FB4AF-F664-4A83-8433-15046FF242DA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2038320" y="622440"/>
            <a:ext cx="2889360" cy="2166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7C66A531-64EC-4FBA-A864-4CA916EFC854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2038320" y="622440"/>
            <a:ext cx="2889360" cy="2166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67EB8EE5-5C43-4EDD-9B01-22A132893DA6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2038320" y="622440"/>
            <a:ext cx="2889360" cy="2166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8C4445F9-25D8-4E83-B326-7B226863EDAB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2038320" y="622440"/>
            <a:ext cx="2889360" cy="2166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AF13AF94-DC22-444D-96BE-296171BC3645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2038320" y="622440"/>
            <a:ext cx="2889360" cy="2166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69DF2E05-20DA-4FF3-A139-4398BB44D6FD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2038320" y="622440"/>
            <a:ext cx="2889360" cy="2166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F1567C43-082B-4D82-8CFD-987502A9845E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2038320" y="622440"/>
            <a:ext cx="2889360" cy="2166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803A9E37-3260-4DEE-A8C2-27E5D98BC16E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2038320" y="622440"/>
            <a:ext cx="2889360" cy="2166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D2F0DEF5-A54C-4CCC-97E0-3DAF6C8FBA97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2038320" y="622440"/>
            <a:ext cx="2889360" cy="2166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18DE6E97-D173-4EC3-A445-70BE10885721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2038320" y="622440"/>
            <a:ext cx="2889360" cy="2166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44F8B424-5B36-42FD-8A3B-7ED3BB1685FB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239840" y="727200"/>
            <a:ext cx="4708440" cy="353196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58320" y="4510080"/>
            <a:ext cx="5270760" cy="428904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3421E332-CF1C-4676-9C35-4410E05365E5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227240" y="717480"/>
            <a:ext cx="4735440" cy="35514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58320" y="4510080"/>
            <a:ext cx="527076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A84EB3F2-05BD-48C8-8E0A-5166170EDF58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227240" y="717480"/>
            <a:ext cx="4735440" cy="35514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58320" y="4510080"/>
            <a:ext cx="527076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E6AE3AF9-E91B-4196-A795-6BE1C1947BA4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27240" y="717480"/>
            <a:ext cx="4735440" cy="35514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58320" y="4510080"/>
            <a:ext cx="527076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791CBA73-F6A9-45EE-944D-8A87FBAE49CF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227240" y="717480"/>
            <a:ext cx="4735440" cy="35514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58320" y="4510080"/>
            <a:ext cx="527076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630200EC-4C0F-4FC5-B5D4-3BFF4E53B09B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227240" y="717480"/>
            <a:ext cx="4735440" cy="35514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58320" y="4510080"/>
            <a:ext cx="527076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E165EC84-76CB-4E46-ACE6-85F060A39B0A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227240" y="717480"/>
            <a:ext cx="4735440" cy="35514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58320" y="4510080"/>
            <a:ext cx="527076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E9949370-8777-452F-A4A1-358147571B3A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239840" y="727200"/>
            <a:ext cx="4708440" cy="353196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58320" y="4510080"/>
            <a:ext cx="5270760" cy="428904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731CBCD3-2C2E-49B2-A06F-19CADC1E8241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239840" y="727200"/>
            <a:ext cx="4708440" cy="353196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58320" y="4510080"/>
            <a:ext cx="5270760" cy="428904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EEAE29DB-B7CF-4595-867F-F8FB89CA98F1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239840" y="727200"/>
            <a:ext cx="4708440" cy="353196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58320" y="4510080"/>
            <a:ext cx="5270760" cy="428904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8F4F23D4-A171-4CBA-B9B0-09EE302B9AD1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239840" y="727200"/>
            <a:ext cx="4708440" cy="353196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58320" y="4510080"/>
            <a:ext cx="5270760" cy="428904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E1C4F938-C1C2-4B7C-8462-2650887A286C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2038320" y="622440"/>
            <a:ext cx="2889360" cy="2166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2B9F144F-BA1B-4596-8E7F-4C565255536C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2038320" y="622440"/>
            <a:ext cx="2889360" cy="2166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1D1FED6C-1578-4EE7-B9BE-D5DE380A00F4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2038320" y="622440"/>
            <a:ext cx="2889360" cy="2166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8F8EFC26-9D01-404B-BC16-EFCB7D736456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2038320" y="622440"/>
            <a:ext cx="2889360" cy="2166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C73A644B-F8DD-4378-9C3A-6DFABB7A0DDE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2038320" y="622440"/>
            <a:ext cx="2889360" cy="21668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28800" y="388872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2572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404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964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2880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404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964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930240" y="509400"/>
            <a:ext cx="742176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2572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928800" y="388872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2572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43404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93964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92880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43404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593964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30240" y="509400"/>
            <a:ext cx="742176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2572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92280" indent="-227160">
              <a:buClr>
                <a:srgbClr val="ffffff"/>
              </a:buClr>
              <a:buFont typeface="Arial"/>
              <a:buChar char="-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596960" indent="-226800"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7200" y="6566040"/>
            <a:ext cx="234288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2002 by Carnegie Mellon University</a:t>
            </a:r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4114440" y="6567480"/>
            <a:ext cx="9867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January 2002</a:t>
            </a:r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" name="Rectangle 9"/>
          <p:cNvSpPr/>
          <p:nvPr/>
        </p:nvSpPr>
        <p:spPr>
          <a:xfrm>
            <a:off x="5904000" y="6564240"/>
            <a:ext cx="319860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PSP I - Introduction to PSP - </a:t>
            </a:r>
            <a:fld id="{F65F716E-25B4-41B5-BC72-A8B8BB90AFD4}" type="slidenum">
              <a:rPr b="1" lang="en-US" sz="1000" spc="-1" strike="noStrike">
                <a:solidFill>
                  <a:srgbClr val="b7b7b7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026"/>
          <p:cNvSpPr/>
          <p:nvPr/>
        </p:nvSpPr>
        <p:spPr>
          <a:xfrm>
            <a:off x="932040" y="4595760"/>
            <a:ext cx="731340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ftware Engineering Institute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rnegie Mellon University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ittsburgh, PA 15213-3890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4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ponsored by the U.S. Department of Defense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002 by Carnegie Mellon University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2" name="Rectangle 1029"/>
          <p:cNvSpPr/>
          <p:nvPr/>
        </p:nvSpPr>
        <p:spPr>
          <a:xfrm>
            <a:off x="4680" y="4680"/>
            <a:ext cx="9129960" cy="6843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3" name="Line 1031"/>
          <p:cNvSpPr/>
          <p:nvPr/>
        </p:nvSpPr>
        <p:spPr>
          <a:xfrm>
            <a:off x="1017720" y="730080"/>
            <a:ext cx="7413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4" name="Rectangle 1033"/>
          <p:cNvSpPr/>
          <p:nvPr/>
        </p:nvSpPr>
        <p:spPr>
          <a:xfrm>
            <a:off x="5970600" y="6564240"/>
            <a:ext cx="31449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PSP I - Introduction to PSP - </a:t>
            </a:r>
            <a:fld id="{7255C586-18CE-4BD7-AB5B-75BBFDEFC6CC}" type="slidenum">
              <a:rPr b="1" lang="en-US" sz="1000" spc="-1" strike="noStrike">
                <a:solidFill>
                  <a:srgbClr val="b7b7b7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grpSp>
        <p:nvGrpSpPr>
          <p:cNvPr id="45" name="Group 1034"/>
          <p:cNvGrpSpPr/>
          <p:nvPr/>
        </p:nvGrpSpPr>
        <p:grpSpPr>
          <a:xfrm>
            <a:off x="146160" y="201600"/>
            <a:ext cx="3490200" cy="488520"/>
            <a:chOff x="146160" y="201600"/>
            <a:chExt cx="3490200" cy="488520"/>
          </a:xfrm>
        </p:grpSpPr>
        <p:sp>
          <p:nvSpPr>
            <p:cNvPr id="46" name="Rectangle 1035"/>
            <p:cNvSpPr/>
            <p:nvPr/>
          </p:nvSpPr>
          <p:spPr>
            <a:xfrm>
              <a:off x="1002960" y="256680"/>
              <a:ext cx="130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C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7" name="Rectangle 1036"/>
            <p:cNvSpPr/>
            <p:nvPr/>
          </p:nvSpPr>
          <p:spPr>
            <a:xfrm>
              <a:off x="1122120" y="256680"/>
              <a:ext cx="122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a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8" name="Rectangle 1037"/>
            <p:cNvSpPr/>
            <p:nvPr/>
          </p:nvSpPr>
          <p:spPr>
            <a:xfrm>
              <a:off x="1230120" y="256680"/>
              <a:ext cx="92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r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9" name="Rectangle 1038"/>
            <p:cNvSpPr/>
            <p:nvPr/>
          </p:nvSpPr>
          <p:spPr>
            <a:xfrm>
              <a:off x="1311840" y="256680"/>
              <a:ext cx="133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n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0" name="Rectangle 1039"/>
            <p:cNvSpPr/>
            <p:nvPr/>
          </p:nvSpPr>
          <p:spPr>
            <a:xfrm>
              <a:off x="1415880" y="256680"/>
              <a:ext cx="120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e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1" name="Rectangle 1040"/>
            <p:cNvSpPr/>
            <p:nvPr/>
          </p:nvSpPr>
          <p:spPr>
            <a:xfrm>
              <a:off x="1501560" y="256680"/>
              <a:ext cx="128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g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2" name="Rectangle 1041"/>
            <p:cNvSpPr/>
            <p:nvPr/>
          </p:nvSpPr>
          <p:spPr>
            <a:xfrm>
              <a:off x="1610640" y="256680"/>
              <a:ext cx="63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i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3" name="Rectangle 1042"/>
            <p:cNvSpPr/>
            <p:nvPr/>
          </p:nvSpPr>
          <p:spPr>
            <a:xfrm>
              <a:off x="1653840" y="256680"/>
              <a:ext cx="120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e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4" name="Rectangle 1043"/>
            <p:cNvSpPr/>
            <p:nvPr/>
          </p:nvSpPr>
          <p:spPr>
            <a:xfrm>
              <a:off x="1764360" y="256680"/>
              <a:ext cx="54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 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5" name="Rectangle 1044"/>
            <p:cNvSpPr/>
            <p:nvPr/>
          </p:nvSpPr>
          <p:spPr>
            <a:xfrm>
              <a:off x="1768680" y="256680"/>
              <a:ext cx="191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M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6" name="Rectangle 1045"/>
            <p:cNvSpPr/>
            <p:nvPr/>
          </p:nvSpPr>
          <p:spPr>
            <a:xfrm>
              <a:off x="1930320" y="256680"/>
              <a:ext cx="120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e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7" name="Rectangle 1046"/>
            <p:cNvSpPr/>
            <p:nvPr/>
          </p:nvSpPr>
          <p:spPr>
            <a:xfrm>
              <a:off x="2026800" y="256680"/>
              <a:ext cx="63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l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8" name="Rectangle 1047"/>
            <p:cNvSpPr/>
            <p:nvPr/>
          </p:nvSpPr>
          <p:spPr>
            <a:xfrm>
              <a:off x="2085480" y="256680"/>
              <a:ext cx="63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l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9" name="Rectangle 1048"/>
            <p:cNvSpPr/>
            <p:nvPr/>
          </p:nvSpPr>
          <p:spPr>
            <a:xfrm>
              <a:off x="2129760" y="256680"/>
              <a:ext cx="125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o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0" name="Rectangle 1049"/>
            <p:cNvSpPr/>
            <p:nvPr/>
          </p:nvSpPr>
          <p:spPr>
            <a:xfrm>
              <a:off x="2229840" y="256680"/>
              <a:ext cx="133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n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1" name="Freeform 1050"/>
            <p:cNvSpPr/>
            <p:nvPr/>
          </p:nvSpPr>
          <p:spPr>
            <a:xfrm>
              <a:off x="483840" y="201600"/>
              <a:ext cx="237240" cy="33840"/>
            </a:xfrm>
            <a:custGeom>
              <a:avLst/>
              <a:gdLst/>
              <a:ahLst/>
              <a:rect l="l" t="t" r="r" b="b"/>
              <a:pathLst>
                <a:path w="133" h="19">
                  <a:moveTo>
                    <a:pt x="19" y="0"/>
                  </a:moveTo>
                  <a:lnTo>
                    <a:pt x="115" y="0"/>
                  </a:lnTo>
                  <a:lnTo>
                    <a:pt x="133" y="19"/>
                  </a:lnTo>
                  <a:lnTo>
                    <a:pt x="0" y="19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2" name="Freeform 1051"/>
            <p:cNvSpPr/>
            <p:nvPr/>
          </p:nvSpPr>
          <p:spPr>
            <a:xfrm>
              <a:off x="414000" y="270720"/>
              <a:ext cx="376560" cy="33840"/>
            </a:xfrm>
            <a:custGeom>
              <a:avLst/>
              <a:gdLst/>
              <a:ahLst/>
              <a:rect l="l" t="t" r="r" b="b"/>
              <a:pathLst>
                <a:path w="211" h="19">
                  <a:moveTo>
                    <a:pt x="19" y="0"/>
                  </a:moveTo>
                  <a:lnTo>
                    <a:pt x="192" y="0"/>
                  </a:lnTo>
                  <a:lnTo>
                    <a:pt x="211" y="19"/>
                  </a:lnTo>
                  <a:lnTo>
                    <a:pt x="0" y="19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3" name="Freeform 1052"/>
            <p:cNvSpPr/>
            <p:nvPr/>
          </p:nvSpPr>
          <p:spPr>
            <a:xfrm>
              <a:off x="344520" y="342360"/>
              <a:ext cx="515880" cy="31680"/>
            </a:xfrm>
            <a:custGeom>
              <a:avLst/>
              <a:gdLst/>
              <a:ahLst/>
              <a:rect l="l" t="t" r="r" b="b"/>
              <a:pathLst>
                <a:path w="289" h="18">
                  <a:moveTo>
                    <a:pt x="19" y="0"/>
                  </a:moveTo>
                  <a:lnTo>
                    <a:pt x="270" y="0"/>
                  </a:lnTo>
                  <a:lnTo>
                    <a:pt x="289" y="18"/>
                  </a:lnTo>
                  <a:lnTo>
                    <a:pt x="0" y="1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4" name="Freeform 1053"/>
            <p:cNvSpPr/>
            <p:nvPr/>
          </p:nvSpPr>
          <p:spPr>
            <a:xfrm>
              <a:off x="290880" y="411840"/>
              <a:ext cx="623160" cy="31680"/>
            </a:xfrm>
            <a:custGeom>
              <a:avLst/>
              <a:gdLst/>
              <a:ahLst/>
              <a:rect l="l" t="t" r="r" b="b"/>
              <a:pathLst>
                <a:path w="349" h="18">
                  <a:moveTo>
                    <a:pt x="9" y="0"/>
                  </a:moveTo>
                  <a:lnTo>
                    <a:pt x="340" y="0"/>
                  </a:lnTo>
                  <a:lnTo>
                    <a:pt x="349" y="9"/>
                  </a:lnTo>
                  <a:lnTo>
                    <a:pt x="340" y="18"/>
                  </a:lnTo>
                  <a:lnTo>
                    <a:pt x="9" y="18"/>
                  </a:lnTo>
                  <a:lnTo>
                    <a:pt x="0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5" name="Freeform 1054"/>
            <p:cNvSpPr/>
            <p:nvPr/>
          </p:nvSpPr>
          <p:spPr>
            <a:xfrm>
              <a:off x="481680" y="619920"/>
              <a:ext cx="237600" cy="33840"/>
            </a:xfrm>
            <a:custGeom>
              <a:avLst/>
              <a:gdLst/>
              <a:ahLst/>
              <a:rect l="l" t="t" r="r" b="b"/>
              <a:pathLst>
                <a:path w="133" h="19">
                  <a:moveTo>
                    <a:pt x="115" y="19"/>
                  </a:moveTo>
                  <a:lnTo>
                    <a:pt x="18" y="19"/>
                  </a:lnTo>
                  <a:lnTo>
                    <a:pt x="0" y="0"/>
                  </a:lnTo>
                  <a:lnTo>
                    <a:pt x="133" y="0"/>
                  </a:lnTo>
                  <a:lnTo>
                    <a:pt x="115" y="19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6" name="Freeform 1055"/>
            <p:cNvSpPr/>
            <p:nvPr/>
          </p:nvSpPr>
          <p:spPr>
            <a:xfrm>
              <a:off x="412200" y="550440"/>
              <a:ext cx="378360" cy="32040"/>
            </a:xfrm>
            <a:custGeom>
              <a:avLst/>
              <a:gdLst/>
              <a:ahLst/>
              <a:rect l="l" t="t" r="r" b="b"/>
              <a:pathLst>
                <a:path w="212" h="18">
                  <a:moveTo>
                    <a:pt x="193" y="18"/>
                  </a:moveTo>
                  <a:lnTo>
                    <a:pt x="19" y="18"/>
                  </a:lnTo>
                  <a:lnTo>
                    <a:pt x="0" y="0"/>
                  </a:lnTo>
                  <a:lnTo>
                    <a:pt x="212" y="0"/>
                  </a:lnTo>
                  <a:lnTo>
                    <a:pt x="193" y="18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7" name="Freeform 1056"/>
            <p:cNvSpPr/>
            <p:nvPr/>
          </p:nvSpPr>
          <p:spPr>
            <a:xfrm>
              <a:off x="340920" y="479160"/>
              <a:ext cx="519480" cy="33840"/>
            </a:xfrm>
            <a:custGeom>
              <a:avLst/>
              <a:gdLst/>
              <a:ahLst/>
              <a:rect l="l" t="t" r="r" b="b"/>
              <a:pathLst>
                <a:path w="291" h="19">
                  <a:moveTo>
                    <a:pt x="273" y="19"/>
                  </a:moveTo>
                  <a:lnTo>
                    <a:pt x="19" y="19"/>
                  </a:lnTo>
                  <a:lnTo>
                    <a:pt x="0" y="0"/>
                  </a:lnTo>
                  <a:lnTo>
                    <a:pt x="291" y="0"/>
                  </a:lnTo>
                  <a:lnTo>
                    <a:pt x="273" y="19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8" name="Freeform 1057"/>
            <p:cNvSpPr/>
            <p:nvPr/>
          </p:nvSpPr>
          <p:spPr>
            <a:xfrm>
              <a:off x="290880" y="248040"/>
              <a:ext cx="281520" cy="12240"/>
            </a:xfrm>
            <a:custGeom>
              <a:avLst/>
              <a:gdLst/>
              <a:ahLst/>
              <a:rect l="l" t="t" r="r" b="b"/>
              <a:pathLst>
                <a:path w="158" h="7">
                  <a:moveTo>
                    <a:pt x="158" y="7"/>
                  </a:moveTo>
                  <a:lnTo>
                    <a:pt x="0" y="7"/>
                  </a:lnTo>
                  <a:lnTo>
                    <a:pt x="6" y="0"/>
                  </a:lnTo>
                  <a:lnTo>
                    <a:pt x="151" y="0"/>
                  </a:lnTo>
                  <a:lnTo>
                    <a:pt x="158" y="7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9" name="Freeform 1058"/>
            <p:cNvSpPr/>
            <p:nvPr/>
          </p:nvSpPr>
          <p:spPr>
            <a:xfrm>
              <a:off x="221400" y="318960"/>
              <a:ext cx="420840" cy="10800"/>
            </a:xfrm>
            <a:custGeom>
              <a:avLst/>
              <a:gdLst/>
              <a:ahLst/>
              <a:rect l="l" t="t" r="r" b="b"/>
              <a:pathLst>
                <a:path w="236" h="6">
                  <a:moveTo>
                    <a:pt x="236" y="6"/>
                  </a:moveTo>
                  <a:lnTo>
                    <a:pt x="0" y="6"/>
                  </a:lnTo>
                  <a:lnTo>
                    <a:pt x="6" y="0"/>
                  </a:lnTo>
                  <a:lnTo>
                    <a:pt x="229" y="0"/>
                  </a:lnTo>
                  <a:lnTo>
                    <a:pt x="236" y="6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0" name="Freeform 1059"/>
            <p:cNvSpPr/>
            <p:nvPr/>
          </p:nvSpPr>
          <p:spPr>
            <a:xfrm>
              <a:off x="151560" y="387000"/>
              <a:ext cx="560160" cy="12240"/>
            </a:xfrm>
            <a:custGeom>
              <a:avLst/>
              <a:gdLst/>
              <a:ahLst/>
              <a:rect l="l" t="t" r="r" b="b"/>
              <a:pathLst>
                <a:path w="314" h="7">
                  <a:moveTo>
                    <a:pt x="314" y="7"/>
                  </a:moveTo>
                  <a:lnTo>
                    <a:pt x="0" y="7"/>
                  </a:lnTo>
                  <a:lnTo>
                    <a:pt x="6" y="0"/>
                  </a:lnTo>
                  <a:lnTo>
                    <a:pt x="307" y="0"/>
                  </a:lnTo>
                  <a:lnTo>
                    <a:pt x="314" y="7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1" name="Freeform 1060"/>
            <p:cNvSpPr/>
            <p:nvPr/>
          </p:nvSpPr>
          <p:spPr>
            <a:xfrm>
              <a:off x="285120" y="595440"/>
              <a:ext cx="287280" cy="12240"/>
            </a:xfrm>
            <a:custGeom>
              <a:avLst/>
              <a:gdLst/>
              <a:ahLst/>
              <a:rect l="l" t="t" r="r" b="b"/>
              <a:pathLst>
                <a:path w="161" h="7">
                  <a:moveTo>
                    <a:pt x="0" y="0"/>
                  </a:moveTo>
                  <a:lnTo>
                    <a:pt x="161" y="0"/>
                  </a:lnTo>
                  <a:lnTo>
                    <a:pt x="154" y="7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2" name="Freeform 1061"/>
            <p:cNvSpPr/>
            <p:nvPr/>
          </p:nvSpPr>
          <p:spPr>
            <a:xfrm>
              <a:off x="215640" y="525960"/>
              <a:ext cx="426600" cy="12240"/>
            </a:xfrm>
            <a:custGeom>
              <a:avLst/>
              <a:gdLst/>
              <a:ahLst/>
              <a:rect l="l" t="t" r="r" b="b"/>
              <a:pathLst>
                <a:path w="239" h="7">
                  <a:moveTo>
                    <a:pt x="0" y="0"/>
                  </a:moveTo>
                  <a:lnTo>
                    <a:pt x="239" y="0"/>
                  </a:lnTo>
                  <a:lnTo>
                    <a:pt x="233" y="7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3" name="Freeform 1062"/>
            <p:cNvSpPr/>
            <p:nvPr/>
          </p:nvSpPr>
          <p:spPr>
            <a:xfrm>
              <a:off x="146160" y="456480"/>
              <a:ext cx="565920" cy="12240"/>
            </a:xfrm>
            <a:custGeom>
              <a:avLst/>
              <a:gdLst/>
              <a:ahLst/>
              <a:rect l="l" t="t" r="r" b="b"/>
              <a:pathLst>
                <a:path w="317" h="7">
                  <a:moveTo>
                    <a:pt x="0" y="0"/>
                  </a:moveTo>
                  <a:lnTo>
                    <a:pt x="317" y="0"/>
                  </a:lnTo>
                  <a:lnTo>
                    <a:pt x="311" y="7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4" name="Rectangle 1063"/>
            <p:cNvSpPr/>
            <p:nvPr/>
          </p:nvSpPr>
          <p:spPr>
            <a:xfrm>
              <a:off x="1015200" y="461520"/>
              <a:ext cx="105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S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5" name="Rectangle 1064"/>
            <p:cNvSpPr/>
            <p:nvPr/>
          </p:nvSpPr>
          <p:spPr>
            <a:xfrm>
              <a:off x="1121040" y="461520"/>
              <a:ext cx="11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o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6" name="Rectangle 1065"/>
            <p:cNvSpPr/>
            <p:nvPr/>
          </p:nvSpPr>
          <p:spPr>
            <a:xfrm>
              <a:off x="1230480" y="461520"/>
              <a:ext cx="73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f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7" name="Rectangle 1066"/>
            <p:cNvSpPr/>
            <p:nvPr/>
          </p:nvSpPr>
          <p:spPr>
            <a:xfrm>
              <a:off x="1286640" y="461520"/>
              <a:ext cx="83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t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8" name="Rectangle 1067"/>
            <p:cNvSpPr/>
            <p:nvPr/>
          </p:nvSpPr>
          <p:spPr>
            <a:xfrm>
              <a:off x="1360440" y="461520"/>
              <a:ext cx="163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w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9" name="Rectangle 1068"/>
            <p:cNvSpPr/>
            <p:nvPr/>
          </p:nvSpPr>
          <p:spPr>
            <a:xfrm>
              <a:off x="1510920" y="46152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a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0" name="Rectangle 1069"/>
            <p:cNvSpPr/>
            <p:nvPr/>
          </p:nvSpPr>
          <p:spPr>
            <a:xfrm>
              <a:off x="1605960" y="461520"/>
              <a:ext cx="87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r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1" name="Rectangle 1070"/>
            <p:cNvSpPr/>
            <p:nvPr/>
          </p:nvSpPr>
          <p:spPr>
            <a:xfrm>
              <a:off x="1683720" y="461520"/>
              <a:ext cx="11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2" name="Rectangle 1071"/>
            <p:cNvSpPr/>
            <p:nvPr/>
          </p:nvSpPr>
          <p:spPr>
            <a:xfrm>
              <a:off x="1791000" y="46152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 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3" name="Rectangle 1072"/>
            <p:cNvSpPr/>
            <p:nvPr/>
          </p:nvSpPr>
          <p:spPr>
            <a:xfrm>
              <a:off x="1834920" y="46152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4" name="Rectangle 1073"/>
            <p:cNvSpPr/>
            <p:nvPr/>
          </p:nvSpPr>
          <p:spPr>
            <a:xfrm>
              <a:off x="1935000" y="461520"/>
              <a:ext cx="12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n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5" name="Rectangle 1074"/>
            <p:cNvSpPr/>
            <p:nvPr/>
          </p:nvSpPr>
          <p:spPr>
            <a:xfrm>
              <a:off x="2044800" y="461520"/>
              <a:ext cx="120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g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6" name="Rectangle 1075"/>
            <p:cNvSpPr/>
            <p:nvPr/>
          </p:nvSpPr>
          <p:spPr>
            <a:xfrm>
              <a:off x="2150640" y="461520"/>
              <a:ext cx="58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i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7" name="Rectangle 1076"/>
            <p:cNvSpPr/>
            <p:nvPr/>
          </p:nvSpPr>
          <p:spPr>
            <a:xfrm>
              <a:off x="2197800" y="461520"/>
              <a:ext cx="12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n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8" name="Rectangle 1077"/>
            <p:cNvSpPr/>
            <p:nvPr/>
          </p:nvSpPr>
          <p:spPr>
            <a:xfrm>
              <a:off x="2305440" y="461520"/>
              <a:ext cx="11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9" name="Rectangle 1078"/>
            <p:cNvSpPr/>
            <p:nvPr/>
          </p:nvSpPr>
          <p:spPr>
            <a:xfrm>
              <a:off x="2409120" y="461520"/>
              <a:ext cx="11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0" name="Rectangle 1079"/>
            <p:cNvSpPr/>
            <p:nvPr/>
          </p:nvSpPr>
          <p:spPr>
            <a:xfrm>
              <a:off x="2505960" y="461520"/>
              <a:ext cx="87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r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1" name="Rectangle 1080"/>
            <p:cNvSpPr/>
            <p:nvPr/>
          </p:nvSpPr>
          <p:spPr>
            <a:xfrm>
              <a:off x="2583360" y="461520"/>
              <a:ext cx="58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i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2" name="Rectangle 1081"/>
            <p:cNvSpPr/>
            <p:nvPr/>
          </p:nvSpPr>
          <p:spPr>
            <a:xfrm>
              <a:off x="2631600" y="461520"/>
              <a:ext cx="12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n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3" name="Rectangle 1082"/>
            <p:cNvSpPr/>
            <p:nvPr/>
          </p:nvSpPr>
          <p:spPr>
            <a:xfrm>
              <a:off x="2741040" y="461520"/>
              <a:ext cx="120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g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4" name="Rectangle 1083"/>
            <p:cNvSpPr/>
            <p:nvPr/>
          </p:nvSpPr>
          <p:spPr>
            <a:xfrm>
              <a:off x="2858760" y="46152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 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5" name="Rectangle 1084"/>
            <p:cNvSpPr/>
            <p:nvPr/>
          </p:nvSpPr>
          <p:spPr>
            <a:xfrm>
              <a:off x="2885400" y="461520"/>
              <a:ext cx="75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I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6" name="Rectangle 1085"/>
            <p:cNvSpPr/>
            <p:nvPr/>
          </p:nvSpPr>
          <p:spPr>
            <a:xfrm>
              <a:off x="2938680" y="461520"/>
              <a:ext cx="12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n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7" name="Rectangle 1086"/>
            <p:cNvSpPr/>
            <p:nvPr/>
          </p:nvSpPr>
          <p:spPr>
            <a:xfrm>
              <a:off x="3055680" y="461520"/>
              <a:ext cx="95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s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8" name="Rectangle 1087"/>
            <p:cNvSpPr/>
            <p:nvPr/>
          </p:nvSpPr>
          <p:spPr>
            <a:xfrm>
              <a:off x="3145320" y="461520"/>
              <a:ext cx="83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t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9" name="Rectangle 1088"/>
            <p:cNvSpPr/>
            <p:nvPr/>
          </p:nvSpPr>
          <p:spPr>
            <a:xfrm>
              <a:off x="3215520" y="461520"/>
              <a:ext cx="58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i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00" name="Rectangle 1089"/>
            <p:cNvSpPr/>
            <p:nvPr/>
          </p:nvSpPr>
          <p:spPr>
            <a:xfrm>
              <a:off x="3268800" y="461520"/>
              <a:ext cx="83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t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01" name="Rectangle 1090"/>
            <p:cNvSpPr/>
            <p:nvPr/>
          </p:nvSpPr>
          <p:spPr>
            <a:xfrm>
              <a:off x="3338640" y="461520"/>
              <a:ext cx="12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u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02" name="Rectangle 1091"/>
            <p:cNvSpPr/>
            <p:nvPr/>
          </p:nvSpPr>
          <p:spPr>
            <a:xfrm>
              <a:off x="3452760" y="461520"/>
              <a:ext cx="83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t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03" name="Rectangle 1092"/>
            <p:cNvSpPr/>
            <p:nvPr/>
          </p:nvSpPr>
          <p:spPr>
            <a:xfrm>
              <a:off x="3522960" y="461520"/>
              <a:ext cx="11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</p:grpSp>
      <p:sp>
        <p:nvSpPr>
          <p:cNvPr id="104" name="Rectangle 1093"/>
          <p:cNvSpPr/>
          <p:nvPr/>
        </p:nvSpPr>
        <p:spPr>
          <a:xfrm>
            <a:off x="4117680" y="6567480"/>
            <a:ext cx="9867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January 2002</a:t>
            </a:r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05" name="Rectangle 2117"/>
          <p:cNvSpPr/>
          <p:nvPr/>
        </p:nvSpPr>
        <p:spPr>
          <a:xfrm>
            <a:off x="4117680" y="6567480"/>
            <a:ext cx="9867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January 2002</a:t>
            </a:r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92280" indent="-227160">
              <a:buClr>
                <a:srgbClr val="ffffff"/>
              </a:buClr>
              <a:buFont typeface="Arial"/>
              <a:buChar char="-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596960" indent="-226800"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hyperlink" Target="https://creativecommons.org/licenses/by/4.0/" TargetMode="External"/><Relationship Id="rId4" Type="http://schemas.openxmlformats.org/officeDocument/2006/relationships/image" Target="../media/image2.png"/><Relationship Id="rId5" Type="http://schemas.openxmlformats.org/officeDocument/2006/relationships/hyperlink" Target="https://creativecommons.org/licenses/by/4.0/" TargetMode="External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18800" y="888480"/>
            <a:ext cx="8124840" cy="11430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Schoolbook"/>
              </a:rPr>
              <a:t>Personal Software</a:t>
            </a:r>
            <a:r>
              <a:rPr b="0" lang="en-US" sz="4800" spc="-1" strike="noStrike">
                <a:solidFill>
                  <a:srgbClr val="ffffff"/>
                </a:solidFill>
                <a:latin typeface="Century Schoolbook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Century Schoolbook"/>
              </a:rPr>
              <a:t>Process</a:t>
            </a:r>
            <a:r>
              <a:rPr b="0" lang="en-US" sz="2400" spc="-1" strike="noStrike" baseline="90000">
                <a:solidFill>
                  <a:srgbClr val="ffffff"/>
                </a:solidFill>
                <a:latin typeface="Century Schoolbook"/>
              </a:rPr>
              <a:t>SM</a:t>
            </a:r>
            <a:br>
              <a:rPr sz="4800"/>
            </a:br>
            <a:r>
              <a:rPr b="0" lang="en-US" sz="4000" spc="-1" strike="noStrike">
                <a:solidFill>
                  <a:srgbClr val="ffffff"/>
                </a:solidFill>
                <a:latin typeface="Century Schoolbook"/>
              </a:rPr>
              <a:t>for Engineers: Part I</a:t>
            </a:r>
            <a:br>
              <a:rPr sz="4000"/>
            </a:b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Tutorial: Using PSP0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03160" y="45864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PSP0 Time Recording Log -2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813960" y="1450800"/>
            <a:ext cx="768996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op:  Enter the time in minutes when you stop work on a project phase, even if you are not done with that phas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terruption time:  Enter any time that you lost due to interruptions in the start to stop perio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lta time:  Enter the elapsed time less the interruption time (start to stop)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03160" y="44604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PSP0 Time Recording Log -3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807840" y="1447920"/>
            <a:ext cx="7802280" cy="47116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e the phase on which you were working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the phase nam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ments:  describ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interrup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task you were do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ything else that significantly affects your wor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03160" y="45864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Defect Recording Log -1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13960" y="1450800"/>
            <a:ext cx="3846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ference:  Table C18,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ge 659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eader:  Enter the name, date, instructor, and program number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ate:  Enter the date when you found and fixed the defect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mber:  Enter a unique number for this defect.  Start each project with 1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2" name="Object 7"/>
          <p:cNvGraphicFramePr/>
          <p:nvPr/>
        </p:nvGraphicFramePr>
        <p:xfrm>
          <a:off x="5038560" y="1479600"/>
          <a:ext cx="3141720" cy="406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3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38560" y="1479600"/>
                    <a:ext cx="3141720" cy="4064040"/>
                  </a:xfrm>
                  <a:prstGeom prst="rect">
                    <a:avLst/>
                  </a:prstGeom>
                  <a:ln w="25560">
                    <a:solidFill>
                      <a:srgbClr val="00008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03160" y="45864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Defect Recording Log -2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801720" y="1450800"/>
            <a:ext cx="7410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ype:  Enter the defect type from the defect type standar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:  Enter the phase during which you judge the defect was injecte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move:  Enter the phase in which you found and fixed the defect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90200" y="4586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Defect Recording Log -3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807840" y="1447920"/>
            <a:ext cx="7686360" cy="47116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x time:  Enter the time that you took to both find and fix the defect.  You may time it exactly, or use your best judgment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x defect:  If this defect was injected while fixing another defect, enter the number of that defect (or an X if you do not know)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scription:  Enter explanation of what the defect was (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not the symptom, but the defect!)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e:  A defect is anything in the program that must be changed for it to be properly developed, enhanced, or use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03160" y="45864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Defect Type Standard -1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801720" y="1450800"/>
            <a:ext cx="76010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ference: Table 20, page 66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defect type standard provides a general set of defect categorie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ile you may replace this standard with your own, it is generally wise to stick with simple type definitions until you have data to guide your change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Rectangle 4"/>
          <p:cNvSpPr/>
          <p:nvPr/>
        </p:nvSpPr>
        <p:spPr>
          <a:xfrm>
            <a:off x="838080" y="5562720"/>
            <a:ext cx="7620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2560" bIns="52560" anchor="t">
            <a:noAutofit/>
          </a:bodyPr>
          <a:p>
            <a:pPr marL="128520" indent="-128520">
              <a:lnSpc>
                <a:spcPct val="87000"/>
              </a:lnSpc>
              <a:buClr>
                <a:srgbClr val="ffffff"/>
              </a:buClr>
              <a:buFont typeface="Arial"/>
              <a:buChar char=" 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90200" y="4586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Defect Type Standard -2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801720" y="1450800"/>
            <a:ext cx="7410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PSP defect types a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0 - Docu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0 - Syntax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0 - Build, packag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0 - Assignme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0 - Interfa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60 - Check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70 - Dat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80 - Func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90 - Syst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00 - Environme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90200" y="4586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PSP0 Plan Summary -1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01360" y="1463400"/>
            <a:ext cx="3452760" cy="45702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ference:  Table C14, page 655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eader:  Enter name, date, program, instructor, and languag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 your best estimate of the total time that the development will tak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 the actual time in minutes that you spent in each phas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5" name="Object 5"/>
          <p:cNvGraphicFramePr/>
          <p:nvPr/>
        </p:nvGraphicFramePr>
        <p:xfrm>
          <a:off x="4508640" y="1522440"/>
          <a:ext cx="4368600" cy="4067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522440"/>
                    <a:ext cx="4368600" cy="4067280"/>
                  </a:xfrm>
                  <a:prstGeom prst="rect">
                    <a:avLst/>
                  </a:prstGeom>
                  <a:ln w="25560">
                    <a:solidFill>
                      <a:srgbClr val="00008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03160" y="45864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PSP0 Plan Summary -2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801720" y="1450800"/>
            <a:ext cx="774072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ime to date:  Enter the total time spent in each phase to date.  For program 1A, this is the time spent on program 1A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ime to date %:  Enter the percent of the total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To dat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time that was spent in each phas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ects injected and removed:  Enter the actual numbers of defects injected and removed in each phas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03160" y="45864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PSP0 Plan Summary -3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801720" y="146340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ects to date:  Enter the total defects injected and removed in each phase to date.  For program 1A, this is the defects injected and removed with program 1A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ects to date %:  Enter the percent of the total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To dat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defects injected and removed in each phas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401400" y="1081080"/>
            <a:ext cx="8319960" cy="50148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01760" y="39600"/>
            <a:ext cx="4093920" cy="1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8503920" y="-360"/>
            <a:ext cx="639720" cy="63972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3"/>
          <p:cNvSpPr/>
          <p:nvPr/>
        </p:nvSpPr>
        <p:spPr>
          <a:xfrm>
            <a:off x="0" y="-591840"/>
            <a:ext cx="9144000" cy="11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37840" tIns="0" bIns="6346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            </a:t>
            </a:r>
            <a:br>
              <a:rPr sz="1800"/>
            </a:b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pic>
        <p:nvPicPr>
          <p:cNvPr id="158" name="Picture 4" descr="Creative Commons Licens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394400" y="5800680"/>
            <a:ext cx="838440" cy="2952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8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31920" y="950760"/>
            <a:ext cx="8631000" cy="47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03160" y="45864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Using Process Script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801360" y="1450800"/>
            <a:ext cx="757548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cess scripts guide you through the proces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shoul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3286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eck the entry criteria before starting a phas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3286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cord the phase start ti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3286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erform the phase steps and instruc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3286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cord defects as they are found and corr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3286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eck the exit criteria before ending a phas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3286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cord the phase end ti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3286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o to the next phas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ce yourself to use this paradigm until it becomes a habit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03160" y="45864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Using Form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814320" y="1450800"/>
            <a:ext cx="76644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structions and examples for each form are in Appendix 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assignment package also includes instruction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eld descriptions are printed on the inside front and back covers of the text book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ip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the forms while you work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eep them organized to save tim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2"/>
          <p:cNvSpPr/>
          <p:nvPr/>
        </p:nvSpPr>
        <p:spPr>
          <a:xfrm>
            <a:off x="7238880" y="1447920"/>
            <a:ext cx="9144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Arial"/>
              </a:rPr>
              <a:t>Plan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06" name="Rectangle 3"/>
          <p:cNvSpPr/>
          <p:nvPr/>
        </p:nvSpPr>
        <p:spPr>
          <a:xfrm>
            <a:off x="7238880" y="2209680"/>
            <a:ext cx="9144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Arial"/>
              </a:rPr>
              <a:t>Design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7238880" y="2971800"/>
            <a:ext cx="9144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Arial"/>
              </a:rPr>
              <a:t>Code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7238880" y="3733920"/>
            <a:ext cx="9144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Arial"/>
              </a:rPr>
              <a:t>Compile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09" name="Rectangle 6"/>
          <p:cNvSpPr/>
          <p:nvPr/>
        </p:nvSpPr>
        <p:spPr>
          <a:xfrm>
            <a:off x="7238880" y="4495680"/>
            <a:ext cx="9144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Arial"/>
              </a:rPr>
              <a:t>Test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10" name="Rectangle 7"/>
          <p:cNvSpPr/>
          <p:nvPr/>
        </p:nvSpPr>
        <p:spPr>
          <a:xfrm>
            <a:off x="7010280" y="5257800"/>
            <a:ext cx="13716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Arial"/>
              </a:rPr>
              <a:t>Postmortem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03160" y="45864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Process Flow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801360" y="1514160"/>
            <a:ext cx="6018120" cy="45702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 fontScale="94000"/>
          </a:bodyPr>
          <a:p>
            <a:pPr>
              <a:lnSpc>
                <a:spcPct val="85000"/>
              </a:lnSpc>
              <a:spcAft>
                <a:spcPts val="337"/>
              </a:spcAft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 PSP is a sequential process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316080" indent="-195480">
              <a:lnSpc>
                <a:spcPct val="85000"/>
              </a:lnSpc>
              <a:spcAft>
                <a:spcPts val="337"/>
              </a:spcAft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eps are executed in sequence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316080" indent="-195480">
              <a:lnSpc>
                <a:spcPct val="85000"/>
              </a:lnSpc>
              <a:spcAft>
                <a:spcPts val="337"/>
              </a:spcAft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low is in one direction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316080" indent="-195480">
              <a:lnSpc>
                <a:spcPct val="85000"/>
              </a:lnSpc>
              <a:spcAft>
                <a:spcPts val="337"/>
              </a:spcAft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it criteria control transition to the next phase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316080" indent="-195480">
              <a:lnSpc>
                <a:spcPct val="85000"/>
              </a:lnSpc>
              <a:spcAft>
                <a:spcPts val="337"/>
              </a:spcAft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re is no transition back to a completed phase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8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8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ccccff"/>
                </a:solidFill>
                <a:latin typeface="Arial"/>
              </a:rPr>
              <a:t>Exampl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8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8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m finds a major logic error in his program during test. He has to redesign and code part of his program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8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8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: What PSP phase is Tom executing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8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: Tes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8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8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8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m finds a defect in the new code he has written.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8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8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: In what PSP phase was the defect injected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8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: Tes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8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Line 10"/>
          <p:cNvSpPr/>
          <p:nvPr/>
        </p:nvSpPr>
        <p:spPr>
          <a:xfrm>
            <a:off x="7696080" y="1909800"/>
            <a:ext cx="0" cy="29988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14" name="Line 11"/>
          <p:cNvSpPr/>
          <p:nvPr/>
        </p:nvSpPr>
        <p:spPr>
          <a:xfrm>
            <a:off x="7696080" y="2671920"/>
            <a:ext cx="0" cy="29988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15" name="Line 12"/>
          <p:cNvSpPr/>
          <p:nvPr/>
        </p:nvSpPr>
        <p:spPr>
          <a:xfrm>
            <a:off x="7696080" y="3433680"/>
            <a:ext cx="0" cy="30024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16" name="Line 13"/>
          <p:cNvSpPr/>
          <p:nvPr/>
        </p:nvSpPr>
        <p:spPr>
          <a:xfrm>
            <a:off x="7696080" y="4195800"/>
            <a:ext cx="0" cy="29988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17" name="Line 14"/>
          <p:cNvSpPr/>
          <p:nvPr/>
        </p:nvSpPr>
        <p:spPr>
          <a:xfrm>
            <a:off x="7696080" y="4957920"/>
            <a:ext cx="0" cy="29988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18" name="Line 15"/>
          <p:cNvSpPr/>
          <p:nvPr/>
        </p:nvSpPr>
        <p:spPr>
          <a:xfrm>
            <a:off x="917640" y="3467160"/>
            <a:ext cx="5483160" cy="0"/>
          </a:xfrm>
          <a:prstGeom prst="line">
            <a:avLst/>
          </a:prstGeom>
          <a:ln w="255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2"/>
          <p:cNvSpPr/>
          <p:nvPr/>
        </p:nvSpPr>
        <p:spPr>
          <a:xfrm>
            <a:off x="5829480" y="1828800"/>
            <a:ext cx="9144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Arial"/>
              </a:rPr>
              <a:t>Plan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20" name="Rectangle 3"/>
          <p:cNvSpPr/>
          <p:nvPr/>
        </p:nvSpPr>
        <p:spPr>
          <a:xfrm>
            <a:off x="5715000" y="2590920"/>
            <a:ext cx="11430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Arial"/>
              </a:rPr>
              <a:t>Design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Arial"/>
              </a:rPr>
              <a:t>parts A+B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5829480" y="3352680"/>
            <a:ext cx="9144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Arial"/>
              </a:rPr>
              <a:t>Code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Arial"/>
              </a:rPr>
              <a:t>part A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22" name="Rectangle 5"/>
          <p:cNvSpPr/>
          <p:nvPr/>
        </p:nvSpPr>
        <p:spPr>
          <a:xfrm>
            <a:off x="5829480" y="4114800"/>
            <a:ext cx="9144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Arial"/>
              </a:rPr>
              <a:t>Compile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Arial"/>
              </a:rPr>
              <a:t>part A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23" name="Rectangle 6"/>
          <p:cNvSpPr/>
          <p:nvPr/>
        </p:nvSpPr>
        <p:spPr>
          <a:xfrm>
            <a:off x="5829480" y="4876920"/>
            <a:ext cx="9144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Arial"/>
              </a:rPr>
              <a:t>Test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Arial"/>
              </a:rPr>
              <a:t>part A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24" name="Rectangle 7"/>
          <p:cNvSpPr/>
          <p:nvPr/>
        </p:nvSpPr>
        <p:spPr>
          <a:xfrm>
            <a:off x="6934320" y="5943600"/>
            <a:ext cx="13716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Arial"/>
              </a:rPr>
              <a:t>Postmortem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Incremental Development -1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788760" y="1501560"/>
            <a:ext cx="4524120" cy="45702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lnSpc>
                <a:spcPct val="85000"/>
              </a:lnSpc>
              <a:spcAft>
                <a:spcPts val="561"/>
              </a:spcAft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 PSP can be adapted to support incremental development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lnSpc>
                <a:spcPct val="88000"/>
              </a:lnSpc>
              <a:spcAft>
                <a:spcPts val="561"/>
              </a:spcAft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vide the program into parts during planning or design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lnSpc>
                <a:spcPct val="88000"/>
              </a:lnSpc>
              <a:spcAft>
                <a:spcPts val="561"/>
              </a:spcAft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parately develop each part using the remaining PSP phases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lnSpc>
                <a:spcPct val="88000"/>
              </a:lnSpc>
              <a:spcAft>
                <a:spcPts val="561"/>
              </a:spcAft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duct one postmortem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8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8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 process flow diagram illustrates one example for a program with two parts, A and B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8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8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ms to support cyclic development are introduced in PSP3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Line 10"/>
          <p:cNvSpPr/>
          <p:nvPr/>
        </p:nvSpPr>
        <p:spPr>
          <a:xfrm>
            <a:off x="6286680" y="2290680"/>
            <a:ext cx="0" cy="30024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28" name="Line 11"/>
          <p:cNvSpPr/>
          <p:nvPr/>
        </p:nvSpPr>
        <p:spPr>
          <a:xfrm>
            <a:off x="6286680" y="3052800"/>
            <a:ext cx="0" cy="29988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29" name="Line 12"/>
          <p:cNvSpPr/>
          <p:nvPr/>
        </p:nvSpPr>
        <p:spPr>
          <a:xfrm>
            <a:off x="6286680" y="3814920"/>
            <a:ext cx="0" cy="29988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30" name="Line 13"/>
          <p:cNvSpPr/>
          <p:nvPr/>
        </p:nvSpPr>
        <p:spPr>
          <a:xfrm>
            <a:off x="6286680" y="4576680"/>
            <a:ext cx="0" cy="30024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31" name="Rectangle 14"/>
          <p:cNvSpPr/>
          <p:nvPr/>
        </p:nvSpPr>
        <p:spPr>
          <a:xfrm>
            <a:off x="7238880" y="3581280"/>
            <a:ext cx="9144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Arial"/>
              </a:rPr>
              <a:t>Code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Arial"/>
              </a:rPr>
              <a:t>part B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32" name="Rectangle 15"/>
          <p:cNvSpPr/>
          <p:nvPr/>
        </p:nvSpPr>
        <p:spPr>
          <a:xfrm>
            <a:off x="7238880" y="4343400"/>
            <a:ext cx="9144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Arial"/>
              </a:rPr>
              <a:t>Compile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Arial"/>
              </a:rPr>
              <a:t>part B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33" name="Rectangle 16"/>
          <p:cNvSpPr/>
          <p:nvPr/>
        </p:nvSpPr>
        <p:spPr>
          <a:xfrm>
            <a:off x="7162920" y="5105520"/>
            <a:ext cx="1066680" cy="495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Arial"/>
              </a:rPr>
              <a:t>Test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Arial"/>
              </a:rPr>
              <a:t>parts A+B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34" name="Line 17"/>
          <p:cNvSpPr/>
          <p:nvPr/>
        </p:nvSpPr>
        <p:spPr>
          <a:xfrm>
            <a:off x="7696080" y="4041720"/>
            <a:ext cx="0" cy="30024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35" name="Line 18"/>
          <p:cNvSpPr/>
          <p:nvPr/>
        </p:nvSpPr>
        <p:spPr>
          <a:xfrm>
            <a:off x="7696080" y="4803840"/>
            <a:ext cx="0" cy="29988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36" name="Freeform 19"/>
          <p:cNvSpPr/>
          <p:nvPr/>
        </p:nvSpPr>
        <p:spPr>
          <a:xfrm>
            <a:off x="6248520" y="3352680"/>
            <a:ext cx="1449360" cy="2211480"/>
          </a:xfrm>
          <a:custGeom>
            <a:avLst/>
            <a:gdLst/>
            <a:ahLst/>
            <a:rect l="l" t="t" r="r" b="b"/>
            <a:pathLst>
              <a:path w="913" h="1393">
                <a:moveTo>
                  <a:pt x="0" y="1248"/>
                </a:moveTo>
                <a:lnTo>
                  <a:pt x="0" y="1392"/>
                </a:lnTo>
                <a:lnTo>
                  <a:pt x="432" y="1392"/>
                </a:lnTo>
                <a:lnTo>
                  <a:pt x="432" y="0"/>
                </a:lnTo>
                <a:lnTo>
                  <a:pt x="912" y="0"/>
                </a:lnTo>
                <a:lnTo>
                  <a:pt x="912" y="144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37" name="Line 20"/>
          <p:cNvSpPr/>
          <p:nvPr/>
        </p:nvSpPr>
        <p:spPr>
          <a:xfrm>
            <a:off x="7696080" y="5591160"/>
            <a:ext cx="0" cy="35244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2"/>
          <p:cNvSpPr/>
          <p:nvPr/>
        </p:nvSpPr>
        <p:spPr>
          <a:xfrm>
            <a:off x="5829480" y="1828800"/>
            <a:ext cx="9144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Arial"/>
              </a:rPr>
              <a:t>Plan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39" name="Rectangle 3"/>
          <p:cNvSpPr/>
          <p:nvPr/>
        </p:nvSpPr>
        <p:spPr>
          <a:xfrm>
            <a:off x="5715000" y="2590920"/>
            <a:ext cx="11430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Arial"/>
              </a:rPr>
              <a:t>Design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Arial"/>
              </a:rPr>
              <a:t>parts A+B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40" name="Rectangle 4"/>
          <p:cNvSpPr/>
          <p:nvPr/>
        </p:nvSpPr>
        <p:spPr>
          <a:xfrm>
            <a:off x="5829480" y="3352680"/>
            <a:ext cx="9144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Arial"/>
              </a:rPr>
              <a:t>Code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Arial"/>
              </a:rPr>
              <a:t>part A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41" name="Rectangle 5"/>
          <p:cNvSpPr/>
          <p:nvPr/>
        </p:nvSpPr>
        <p:spPr>
          <a:xfrm>
            <a:off x="5829480" y="4114800"/>
            <a:ext cx="9144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Arial"/>
              </a:rPr>
              <a:t>Compile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Arial"/>
              </a:rPr>
              <a:t>part A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42" name="Rectangle 6"/>
          <p:cNvSpPr/>
          <p:nvPr/>
        </p:nvSpPr>
        <p:spPr>
          <a:xfrm>
            <a:off x="5829480" y="4876920"/>
            <a:ext cx="9144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Arial"/>
              </a:rPr>
              <a:t>Test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Arial"/>
              </a:rPr>
              <a:t>part A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43" name="Rectangle 7"/>
          <p:cNvSpPr/>
          <p:nvPr/>
        </p:nvSpPr>
        <p:spPr>
          <a:xfrm>
            <a:off x="6934320" y="5867280"/>
            <a:ext cx="13716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Arial"/>
              </a:rPr>
              <a:t>Postmortem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Incremental Development -2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801720" y="1501560"/>
            <a:ext cx="4524480" cy="45702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lnSpc>
                <a:spcPct val="85000"/>
              </a:lnSpc>
              <a:spcAft>
                <a:spcPts val="561"/>
              </a:spcAft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easurement considera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214560">
              <a:lnSpc>
                <a:spcPct val="85000"/>
              </a:lnSpc>
              <a:spcAft>
                <a:spcPts val="561"/>
              </a:spcAft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clude a program part identifier in the notes field on time log entries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214560">
              <a:lnSpc>
                <a:spcPct val="85000"/>
              </a:lnSpc>
              <a:spcAft>
                <a:spcPts val="561"/>
              </a:spcAft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a similar annotation to defect log entries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214560">
              <a:lnSpc>
                <a:spcPct val="85000"/>
              </a:lnSpc>
              <a:spcAft>
                <a:spcPts val="561"/>
              </a:spcAft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se “Test” as the phase removed when defects are found in a previously tested part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Aft>
                <a:spcPts val="561"/>
              </a:spcAft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8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ccccff"/>
                </a:solidFill>
                <a:latin typeface="Arial"/>
              </a:rPr>
              <a:t>Exampl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8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8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m finds and fixes an interface error in part A of his program while coding part B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8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8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: In what PSP phase was this defect removed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8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: Tes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Line 10"/>
          <p:cNvSpPr/>
          <p:nvPr/>
        </p:nvSpPr>
        <p:spPr>
          <a:xfrm>
            <a:off x="6286680" y="2290680"/>
            <a:ext cx="0" cy="30024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47" name="Line 11"/>
          <p:cNvSpPr/>
          <p:nvPr/>
        </p:nvSpPr>
        <p:spPr>
          <a:xfrm>
            <a:off x="6286680" y="3052800"/>
            <a:ext cx="0" cy="29988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48" name="Line 12"/>
          <p:cNvSpPr/>
          <p:nvPr/>
        </p:nvSpPr>
        <p:spPr>
          <a:xfrm>
            <a:off x="6286680" y="3814920"/>
            <a:ext cx="0" cy="29988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49" name="Line 13"/>
          <p:cNvSpPr/>
          <p:nvPr/>
        </p:nvSpPr>
        <p:spPr>
          <a:xfrm>
            <a:off x="6286680" y="4576680"/>
            <a:ext cx="0" cy="30024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50" name="Rectangle 14"/>
          <p:cNvSpPr/>
          <p:nvPr/>
        </p:nvSpPr>
        <p:spPr>
          <a:xfrm>
            <a:off x="7238880" y="3581280"/>
            <a:ext cx="9144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Arial"/>
              </a:rPr>
              <a:t>Code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Arial"/>
              </a:rPr>
              <a:t>part B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51" name="Rectangle 15"/>
          <p:cNvSpPr/>
          <p:nvPr/>
        </p:nvSpPr>
        <p:spPr>
          <a:xfrm>
            <a:off x="7238880" y="4343400"/>
            <a:ext cx="9144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Arial"/>
              </a:rPr>
              <a:t>Compile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Arial"/>
              </a:rPr>
              <a:t>part B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52" name="Rectangle 16"/>
          <p:cNvSpPr/>
          <p:nvPr/>
        </p:nvSpPr>
        <p:spPr>
          <a:xfrm>
            <a:off x="7162920" y="5105520"/>
            <a:ext cx="1066680" cy="495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Arial"/>
              </a:rPr>
              <a:t>Test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Arial"/>
              </a:rPr>
              <a:t>parts A+B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53" name="Line 17"/>
          <p:cNvSpPr/>
          <p:nvPr/>
        </p:nvSpPr>
        <p:spPr>
          <a:xfrm>
            <a:off x="7696080" y="4041720"/>
            <a:ext cx="0" cy="30024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54" name="Line 18"/>
          <p:cNvSpPr/>
          <p:nvPr/>
        </p:nvSpPr>
        <p:spPr>
          <a:xfrm>
            <a:off x="7696080" y="4803840"/>
            <a:ext cx="0" cy="29988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55" name="Freeform 19"/>
          <p:cNvSpPr/>
          <p:nvPr/>
        </p:nvSpPr>
        <p:spPr>
          <a:xfrm>
            <a:off x="6248520" y="3352680"/>
            <a:ext cx="1449360" cy="2211480"/>
          </a:xfrm>
          <a:custGeom>
            <a:avLst/>
            <a:gdLst/>
            <a:ahLst/>
            <a:rect l="l" t="t" r="r" b="b"/>
            <a:pathLst>
              <a:path w="913" h="1393">
                <a:moveTo>
                  <a:pt x="0" y="1248"/>
                </a:moveTo>
                <a:lnTo>
                  <a:pt x="0" y="1392"/>
                </a:lnTo>
                <a:lnTo>
                  <a:pt x="432" y="1392"/>
                </a:lnTo>
                <a:lnTo>
                  <a:pt x="432" y="0"/>
                </a:lnTo>
                <a:lnTo>
                  <a:pt x="912" y="0"/>
                </a:lnTo>
                <a:lnTo>
                  <a:pt x="912" y="144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56" name="Line 20"/>
          <p:cNvSpPr/>
          <p:nvPr/>
        </p:nvSpPr>
        <p:spPr>
          <a:xfrm>
            <a:off x="7696080" y="5595840"/>
            <a:ext cx="0" cy="27144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57" name="Line 21"/>
          <p:cNvSpPr/>
          <p:nvPr/>
        </p:nvSpPr>
        <p:spPr>
          <a:xfrm>
            <a:off x="917640" y="4317840"/>
            <a:ext cx="4187880" cy="0"/>
          </a:xfrm>
          <a:prstGeom prst="line">
            <a:avLst/>
          </a:prstGeom>
          <a:ln w="255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790200" y="4586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Measuring Your Proces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89120" y="1450800"/>
            <a:ext cx="7410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ather and record data on your process as you work, not afterwards.  If you forget, promptly make your best gues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e precise and accurat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ime in minut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unt every defec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will be using your own data to manage your process; gather data that is worthy of your trust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03160" y="45864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Defect Fix Time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801720" y="141264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395280"/>
                <a:tab algn="l" pos="790560"/>
                <a:tab algn="l" pos="1185840"/>
                <a:tab algn="l" pos="1581120"/>
                <a:tab algn="l" pos="1976400"/>
                <a:tab algn="l" pos="2371680"/>
                <a:tab algn="l" pos="2766960"/>
                <a:tab algn="l" pos="3162240"/>
                <a:tab algn="l" pos="3557520"/>
                <a:tab algn="l" pos="3952800"/>
                <a:tab algn="l" pos="4348080"/>
                <a:tab algn="l" pos="4743360"/>
                <a:tab algn="l" pos="5138640"/>
                <a:tab algn="l" pos="5533920"/>
                <a:tab algn="l" pos="5929200"/>
                <a:tab algn="l" pos="6324480"/>
                <a:tab algn="l" pos="6719760"/>
                <a:tab algn="l" pos="7115040"/>
                <a:tab algn="l" pos="7510320"/>
                <a:tab algn="l" pos="790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ect fix time is often misunderstoo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95280"/>
                <a:tab algn="l" pos="790560"/>
                <a:tab algn="l" pos="1185840"/>
                <a:tab algn="l" pos="1581120"/>
                <a:tab algn="l" pos="1976400"/>
                <a:tab algn="l" pos="2371680"/>
                <a:tab algn="l" pos="2766960"/>
                <a:tab algn="l" pos="3162240"/>
                <a:tab algn="l" pos="3557520"/>
                <a:tab algn="l" pos="3952800"/>
                <a:tab algn="l" pos="4348080"/>
                <a:tab algn="l" pos="4743360"/>
                <a:tab algn="l" pos="5138640"/>
                <a:tab algn="l" pos="5533920"/>
                <a:tab algn="l" pos="5929200"/>
                <a:tab algn="l" pos="6324480"/>
                <a:tab algn="l" pos="6719760"/>
                <a:tab algn="l" pos="7115040"/>
                <a:tab algn="l" pos="7510320"/>
                <a:tab algn="l" pos="79056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95280"/>
                <a:tab algn="l" pos="790560"/>
                <a:tab algn="l" pos="1185840"/>
                <a:tab algn="l" pos="1581120"/>
                <a:tab algn="l" pos="1976400"/>
                <a:tab algn="l" pos="2371680"/>
                <a:tab algn="l" pos="2766960"/>
                <a:tab algn="l" pos="3162240"/>
                <a:tab algn="l" pos="3557520"/>
                <a:tab algn="l" pos="3952800"/>
                <a:tab algn="l" pos="4348080"/>
                <a:tab algn="l" pos="4743360"/>
                <a:tab algn="l" pos="5138640"/>
                <a:tab algn="l" pos="5533920"/>
                <a:tab algn="l" pos="5929200"/>
                <a:tab algn="l" pos="6324480"/>
                <a:tab algn="l" pos="6719760"/>
                <a:tab algn="l" pos="7115040"/>
                <a:tab algn="l" pos="7510320"/>
                <a:tab algn="l" pos="790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t is the time taken to both find and fix the defect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95280"/>
                <a:tab algn="l" pos="790560"/>
                <a:tab algn="l" pos="1185840"/>
                <a:tab algn="l" pos="1581120"/>
                <a:tab algn="l" pos="1976400"/>
                <a:tab algn="l" pos="2371680"/>
                <a:tab algn="l" pos="2766960"/>
                <a:tab algn="l" pos="3162240"/>
                <a:tab algn="l" pos="3557520"/>
                <a:tab algn="l" pos="3952800"/>
                <a:tab algn="l" pos="4348080"/>
                <a:tab algn="l" pos="4743360"/>
                <a:tab algn="l" pos="5138640"/>
                <a:tab algn="l" pos="5533920"/>
                <a:tab algn="l" pos="5929200"/>
                <a:tab algn="l" pos="6324480"/>
                <a:tab algn="l" pos="6719760"/>
                <a:tab algn="l" pos="7115040"/>
                <a:tab algn="l" pos="7510320"/>
                <a:tab algn="l" pos="79056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95280"/>
                <a:tab algn="l" pos="790560"/>
                <a:tab algn="l" pos="1185840"/>
                <a:tab algn="l" pos="1581120"/>
                <a:tab algn="l" pos="1976400"/>
                <a:tab algn="l" pos="2371680"/>
                <a:tab algn="l" pos="2766960"/>
                <a:tab algn="l" pos="3162240"/>
                <a:tab algn="l" pos="3557520"/>
                <a:tab algn="l" pos="3952800"/>
                <a:tab algn="l" pos="4348080"/>
                <a:tab algn="l" pos="4743360"/>
                <a:tab algn="l" pos="5138640"/>
                <a:tab algn="l" pos="5533920"/>
                <a:tab algn="l" pos="5929200"/>
                <a:tab algn="l" pos="6324480"/>
                <a:tab algn="l" pos="6719760"/>
                <a:tab algn="l" pos="7115040"/>
                <a:tab algn="l" pos="7510320"/>
                <a:tab algn="l" pos="79056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95280"/>
                <a:tab algn="l" pos="790560"/>
                <a:tab algn="l" pos="1185840"/>
                <a:tab algn="l" pos="1581120"/>
                <a:tab algn="l" pos="1976400"/>
                <a:tab algn="l" pos="2371680"/>
                <a:tab algn="l" pos="2766960"/>
                <a:tab algn="l" pos="3162240"/>
                <a:tab algn="l" pos="3557520"/>
                <a:tab algn="l" pos="3952800"/>
                <a:tab algn="l" pos="4348080"/>
                <a:tab algn="l" pos="4743360"/>
                <a:tab algn="l" pos="5138640"/>
                <a:tab algn="l" pos="5533920"/>
                <a:tab algn="l" pos="5929200"/>
                <a:tab algn="l" pos="6324480"/>
                <a:tab algn="l" pos="6719760"/>
                <a:tab algn="l" pos="7115040"/>
                <a:tab algn="l" pos="7510320"/>
                <a:tab algn="l" pos="7905600"/>
              </a:tabLst>
            </a:pPr>
            <a:r>
              <a:rPr b="0" lang="en-US" sz="1800" spc="-1" strike="noStrike">
                <a:solidFill>
                  <a:srgbClr val="ccccff"/>
                </a:solidFill>
                <a:latin typeface="Arial"/>
              </a:rPr>
              <a:t>Exampl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95280"/>
                <a:tab algn="l" pos="790560"/>
                <a:tab algn="l" pos="1185840"/>
                <a:tab algn="l" pos="1581120"/>
                <a:tab algn="l" pos="1976400"/>
                <a:tab algn="l" pos="2371680"/>
                <a:tab algn="l" pos="2766960"/>
                <a:tab algn="l" pos="3162240"/>
                <a:tab algn="l" pos="3557520"/>
                <a:tab algn="l" pos="3952800"/>
                <a:tab algn="l" pos="4348080"/>
                <a:tab algn="l" pos="4743360"/>
                <a:tab algn="l" pos="5138640"/>
                <a:tab algn="l" pos="5533920"/>
                <a:tab algn="l" pos="5929200"/>
                <a:tab algn="l" pos="6324480"/>
                <a:tab algn="l" pos="6719760"/>
                <a:tab algn="l" pos="7115040"/>
                <a:tab algn="l" pos="7510320"/>
                <a:tab algn="l" pos="79056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95280"/>
                <a:tab algn="l" pos="790560"/>
                <a:tab algn="l" pos="1185840"/>
                <a:tab algn="l" pos="1581120"/>
                <a:tab algn="l" pos="1976400"/>
                <a:tab algn="l" pos="2371680"/>
                <a:tab algn="l" pos="2766960"/>
                <a:tab algn="l" pos="3162240"/>
                <a:tab algn="l" pos="3557520"/>
                <a:tab algn="l" pos="3952800"/>
                <a:tab algn="l" pos="4348080"/>
                <a:tab algn="l" pos="4743360"/>
                <a:tab algn="l" pos="5138640"/>
                <a:tab algn="l" pos="5533920"/>
                <a:tab algn="l" pos="5929200"/>
                <a:tab algn="l" pos="6324480"/>
                <a:tab algn="l" pos="6719760"/>
                <a:tab algn="l" pos="7115040"/>
                <a:tab algn="l" pos="7510320"/>
                <a:tab algn="l" pos="790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:05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un compiler on p1a.c, “line 23 - type mismatch”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95280"/>
                <a:tab algn="l" pos="790560"/>
                <a:tab algn="l" pos="1185840"/>
                <a:tab algn="l" pos="1581120"/>
                <a:tab algn="l" pos="1976400"/>
                <a:tab algn="l" pos="2371680"/>
                <a:tab algn="l" pos="2766960"/>
                <a:tab algn="l" pos="3162240"/>
                <a:tab algn="l" pos="3557520"/>
                <a:tab algn="l" pos="3952800"/>
                <a:tab algn="l" pos="4348080"/>
                <a:tab algn="l" pos="4743360"/>
                <a:tab algn="l" pos="5138640"/>
                <a:tab algn="l" pos="5533920"/>
                <a:tab algn="l" pos="5929200"/>
                <a:tab algn="l" pos="6324480"/>
                <a:tab algn="l" pos="6719760"/>
                <a:tab algn="l" pos="7115040"/>
                <a:tab algn="l" pos="7510320"/>
                <a:tab algn="l" pos="790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:06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un editor on p1a.c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95280"/>
                <a:tab algn="l" pos="790560"/>
                <a:tab algn="l" pos="1185840"/>
                <a:tab algn="l" pos="1581120"/>
                <a:tab algn="l" pos="1976400"/>
                <a:tab algn="l" pos="2371680"/>
                <a:tab algn="l" pos="2766960"/>
                <a:tab algn="l" pos="3162240"/>
                <a:tab algn="l" pos="3557520"/>
                <a:tab algn="l" pos="3952800"/>
                <a:tab algn="l" pos="4348080"/>
                <a:tab algn="l" pos="4743360"/>
                <a:tab algn="l" pos="5138640"/>
                <a:tab algn="l" pos="5533920"/>
                <a:tab algn="l" pos="5929200"/>
                <a:tab algn="l" pos="6324480"/>
                <a:tab algn="l" pos="6719760"/>
                <a:tab algn="l" pos="7115040"/>
                <a:tab algn="l" pos="7510320"/>
                <a:tab algn="l" pos="790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:15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nge declaration on line 6 from integer to rea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95280"/>
                <a:tab algn="l" pos="790560"/>
                <a:tab algn="l" pos="1185840"/>
                <a:tab algn="l" pos="1581120"/>
                <a:tab algn="l" pos="1976400"/>
                <a:tab algn="l" pos="2371680"/>
                <a:tab algn="l" pos="2766960"/>
                <a:tab algn="l" pos="3162240"/>
                <a:tab algn="l" pos="3557520"/>
                <a:tab algn="l" pos="3952800"/>
                <a:tab algn="l" pos="4348080"/>
                <a:tab algn="l" pos="4743360"/>
                <a:tab algn="l" pos="5138640"/>
                <a:tab algn="l" pos="5533920"/>
                <a:tab algn="l" pos="5929200"/>
                <a:tab algn="l" pos="6324480"/>
                <a:tab algn="l" pos="6719760"/>
                <a:tab algn="l" pos="7115040"/>
                <a:tab algn="l" pos="7510320"/>
                <a:tab algn="l" pos="790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:16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un compiler on p1a.c, “no errors”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95280"/>
                <a:tab algn="l" pos="790560"/>
                <a:tab algn="l" pos="1185840"/>
                <a:tab algn="l" pos="1581120"/>
                <a:tab algn="l" pos="1976400"/>
                <a:tab algn="l" pos="2371680"/>
                <a:tab algn="l" pos="2766960"/>
                <a:tab algn="l" pos="3162240"/>
                <a:tab algn="l" pos="3557520"/>
                <a:tab algn="l" pos="3952800"/>
                <a:tab algn="l" pos="4348080"/>
                <a:tab algn="l" pos="4743360"/>
                <a:tab algn="l" pos="5138640"/>
                <a:tab algn="l" pos="5533920"/>
                <a:tab algn="l" pos="5929200"/>
                <a:tab algn="l" pos="6324480"/>
                <a:tab algn="l" pos="6719760"/>
                <a:tab algn="l" pos="7115040"/>
                <a:tab algn="l" pos="7510320"/>
                <a:tab algn="l" pos="79056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95280"/>
                <a:tab algn="l" pos="790560"/>
                <a:tab algn="l" pos="1185840"/>
                <a:tab algn="l" pos="1581120"/>
                <a:tab algn="l" pos="1976400"/>
                <a:tab algn="l" pos="2371680"/>
                <a:tab algn="l" pos="2766960"/>
                <a:tab algn="l" pos="3162240"/>
                <a:tab algn="l" pos="3557520"/>
                <a:tab algn="l" pos="3952800"/>
                <a:tab algn="l" pos="4348080"/>
                <a:tab algn="l" pos="4743360"/>
                <a:tab algn="l" pos="5138640"/>
                <a:tab algn="l" pos="5533920"/>
                <a:tab algn="l" pos="5929200"/>
                <a:tab algn="l" pos="6324480"/>
                <a:tab algn="l" pos="6719760"/>
                <a:tab algn="l" pos="7115040"/>
                <a:tab algn="l" pos="7510320"/>
                <a:tab algn="l" pos="790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: What is the defect fix time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95280"/>
                <a:tab algn="l" pos="790560"/>
                <a:tab algn="l" pos="1185840"/>
                <a:tab algn="l" pos="1581120"/>
                <a:tab algn="l" pos="1976400"/>
                <a:tab algn="l" pos="2371680"/>
                <a:tab algn="l" pos="2766960"/>
                <a:tab algn="l" pos="3162240"/>
                <a:tab algn="l" pos="3557520"/>
                <a:tab algn="l" pos="3952800"/>
                <a:tab algn="l" pos="4348080"/>
                <a:tab algn="l" pos="4743360"/>
                <a:tab algn="l" pos="5138640"/>
                <a:tab algn="l" pos="5533920"/>
                <a:tab algn="l" pos="5929200"/>
                <a:tab algn="l" pos="6324480"/>
                <a:tab algn="l" pos="6719760"/>
                <a:tab algn="l" pos="7115040"/>
                <a:tab algn="l" pos="7510320"/>
                <a:tab algn="l" pos="790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: 10 minut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Line 4"/>
          <p:cNvSpPr/>
          <p:nvPr/>
        </p:nvSpPr>
        <p:spPr>
          <a:xfrm>
            <a:off x="905040" y="3301920"/>
            <a:ext cx="7083360" cy="0"/>
          </a:xfrm>
          <a:prstGeom prst="line">
            <a:avLst/>
          </a:prstGeom>
          <a:ln w="255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03160" y="45864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Exercise Instruction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814320" y="1450800"/>
            <a:ext cx="774072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ad through the PSP0 process scripts (in the workbook) so that you understand the entry and exit criteria for each phas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ad JD’s scenario for program 1A and, based on this scenario, fill out th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ime lo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ect lo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lan summa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fer to the instructions for each form to determine what information goes in each fiel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03160" y="45864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Messages to Remember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801720" y="1450800"/>
            <a:ext cx="76644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 using PSP0, your principal objective is to learn to gather and report accurate and complete data on your work.  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ce you have completed this course, you will know how to adjust and extend the PSP to meet your future need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til then, make your best effort to follow the PSP process scripts and instruction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03160" y="45864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Tutorial Objective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814320" y="1450800"/>
            <a:ext cx="76392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fter this tutorial, you wil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derstand the PSP0 proces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now how to use PSP0 process scripts and for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e prepared to use PSP0 for assignment 1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03160" y="45864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PSP0 Objective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801360" y="1450800"/>
            <a:ext cx="76136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objective of PSP0 is to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monstrate the use of a defined process in writing small pro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orporate basic measurements in the software development proces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quire minimal changes to personal practic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03160" y="45864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The PSP0 Process -1 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801720" y="1450800"/>
            <a:ext cx="7410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SP0 is a simple, defined, personal proces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your current design and development method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ather data on your work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ime spent by phas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ects found in compile and te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epare a summary report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03160" y="45864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The PSP0 Process -2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801720" y="1450800"/>
            <a:ext cx="7410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l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cess scrip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ime recording lo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ect reporting lo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ect type standar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ject plan summary for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03160" y="45864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The PSP0 Scripts -1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820800" y="1447920"/>
            <a:ext cx="7764480" cy="47116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ference:  Table C10, page 652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lanning:  Estimate the development tim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velopment:  Develop the product using your current method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mortem:  Complete the project plan summary with the time spent and defects found and injected in each phas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03160" y="45864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The PSP0 Scripts -2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801720" y="1450800"/>
            <a:ext cx="7410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sign:  Design the program using your current design method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ding:  Implement the program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ile:  Compile until defect-free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st:  Test the program and fix all defects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cord defects in the defect log and time per phase in the time log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03160" y="45864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PSP0 Time Recording Log -1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01720" y="1450800"/>
            <a:ext cx="37958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ference:  Table C16,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ge 657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eader:  Enter name, date, instructor, and program number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ate:  Enter the current dat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art:  Enter the time in minutes when you start a project phas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4" name="Object 12"/>
          <p:cNvGraphicFramePr/>
          <p:nvPr/>
        </p:nvGraphicFramePr>
        <p:xfrm>
          <a:off x="4889520" y="1574640"/>
          <a:ext cx="3263760" cy="406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5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89520" y="1574640"/>
                    <a:ext cx="3263760" cy="4064040"/>
                  </a:xfrm>
                  <a:prstGeom prst="rect">
                    <a:avLst/>
                  </a:prstGeom>
                  <a:ln w="25560">
                    <a:solidFill>
                      <a:srgbClr val="00008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5-01T18:48:08Z</dcterms:created>
  <dc:creator>Computing Facilities</dc:creator>
  <dc:description/>
  <dc:language>en-US</dc:language>
  <cp:lastModifiedBy>wrn_loc_adm</cp:lastModifiedBy>
  <cp:lastPrinted>1999-09-07T19:03:54Z</cp:lastPrinted>
  <dcterms:modified xsi:type="dcterms:W3CDTF">2018-09-06T00:16:58Z</dcterms:modified>
  <cp:revision>65</cp:revision>
  <dc:subject/>
  <dc:title>No Slide Title</dc:title>
</cp:coreProperties>
</file>